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C59D-01C8-498A-AE28-C241902F0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CF04-D7B4-4B63-B46A-E9D452658D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2D4B-224B-46B0-9812-7FEEF4CB09A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9FE0-E94F-401B-834F-B94C2B6A42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31B8-8555-47B1-9096-77302D619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B349-72FB-43E6-B2AD-31BD6173E3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CD3A-39D1-425B-AE4A-9F0F9C9067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A7E1-6523-4EDE-B160-8BE1D96BA5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D7B8-F6C0-4E94-AAEF-B16145A798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3331-07D8-4947-8C6E-73A6F6C3E2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E672-7527-41A0-8684-F2CC49FD1C3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7C13-3674-47A6-BF02-68854BB5FE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75000" y="43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33C-4812-4B19-808D-006124A7C2D7}" type="slidenum"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D33-9167-40A7-B792-56821D5CBBFB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9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143-AE4D-4579-B63D-7296FDCC71A1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0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453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CDBE-1C04-4C63-94CA-361E8292D278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11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494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002-2D10-4AAE-AB4D-8A14F52D58D3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-100080"/>
            <a:ext cx="9369360" cy="702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179280" y="-27000"/>
            <a:ext cx="3162240" cy="2579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0364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06666"/>
                </a:solidFill>
                <a:latin typeface="Arial  (Headings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9324-8632-417F-A01B-D8DA1EEBE822}" type="datetime">
              <a:rPr b="0" lang="en-US" sz="2500" spc="-1" strike="noStrike">
                <a:solidFill>
                  <a:srgbClr val="006666"/>
                </a:solidFill>
                <a:latin typeface="Arial  (Headings)"/>
              </a:rPr>
              <a:t>07/29/26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FB34-BC1E-4E0B-82F0-D102F92FA25F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125" name="Round Same Side Corner Rectangle 6"/>
          <p:cNvSpPr/>
          <p:nvPr/>
        </p:nvSpPr>
        <p:spPr>
          <a:xfrm rot="16200000">
            <a:off x="4662360" y="-1089000"/>
            <a:ext cx="1511280" cy="766764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7667640"/>
              <a:gd name="textAreaBottom" fmla="*/ 7668000 h 7667640"/>
            </a:gdLst>
            <a:ahLst/>
            <a:rect l="textAreaLeft" t="textAreaTop" r="textAreaRight" b="textAreaBottom"/>
            <a:pathLst>
              <a:path w="1511300" h="7667625">
                <a:moveTo>
                  <a:pt x="251888" y="0"/>
                </a:moveTo>
                <a:lnTo>
                  <a:pt x="1259412" y="0"/>
                </a:lnTo>
                <a:lnTo>
                  <a:pt x="1259412" y="0"/>
                </a:lnTo>
                <a:arcTo wR="251888" hR="251888" stAng="-5400000" swAng="5400000"/>
                <a:lnTo>
                  <a:pt x="1511300" y="7667625"/>
                </a:lnTo>
                <a:lnTo>
                  <a:pt x="0" y="7667625"/>
                </a:lnTo>
                <a:lnTo>
                  <a:pt x="0" y="251888"/>
                </a:lnTo>
                <a:lnTo>
                  <a:pt x="0" y="251888"/>
                </a:lnTo>
                <a:arcTo wR="251888" hR="251888" stAng="10800000" swAng="5400000"/>
                <a:close/>
              </a:path>
            </a:pathLst>
          </a:custGeom>
          <a:solidFill>
            <a:srgbClr val="4470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9"/>
          <p:cNvSpPr/>
          <p:nvPr/>
        </p:nvSpPr>
        <p:spPr>
          <a:xfrm>
            <a:off x="2340000" y="2133720"/>
            <a:ext cx="0" cy="1224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58A6-2895-4A7B-ABAB-964D06111FCC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935-7048-4FA0-9677-E0FECA14A9CB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6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F8E-C839-44AD-ABB4-AEB7CC85B15C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7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5"/>
          <p:cNvSpPr/>
          <p:nvPr/>
        </p:nvSpPr>
        <p:spPr>
          <a:xfrm>
            <a:off x="6975360" y="442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317-F18F-451C-A4D3-FFB5C6464FA1}" type="slidenum">
              <a:rPr b="1" lang="lv-LV" sz="1600" spc="-1" strike="noStrike">
                <a:solidFill>
                  <a:srgbClr val="006666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8"/>
          </p:nvPr>
        </p:nvSpPr>
        <p:spPr>
          <a:xfrm>
            <a:off x="6011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ppt_final.jpg"/>
          <p:cNvPicPr/>
          <p:nvPr/>
        </p:nvPicPr>
        <p:blipFill>
          <a:blip r:embed="rId2"/>
          <a:stretch/>
        </p:blipFill>
        <p:spPr>
          <a:xfrm>
            <a:off x="0" y="-100080"/>
            <a:ext cx="9252000" cy="7021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3"/>
          <a:stretch/>
        </p:blipFill>
        <p:spPr>
          <a:xfrm>
            <a:off x="0" y="-198360"/>
            <a:ext cx="9288360" cy="7056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185760" y="-27000"/>
            <a:ext cx="3162240" cy="25797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 (headings)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5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>
            <a:alpha val="1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371600" y="5424120"/>
            <a:ext cx="6400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idzeme@vidzeme.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808080"/>
                </a:solidFill>
                <a:latin typeface="Arial"/>
              </a:rPr>
              <a:t>www.vidzeme.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685800" y="2881440"/>
            <a:ext cx="8020080" cy="2543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6666"/>
                </a:solidFill>
                <a:latin typeface="Calibri Bold"/>
              </a:rPr>
              <a:t>Vidzemes plānošanas reģiona izaicinājumi un atskats par padarīto</a:t>
            </a:r>
            <a:br>
              <a:rPr sz="3600"/>
            </a:br>
            <a:r>
              <a:rPr b="1" lang="lv-LV" sz="2900" spc="-1" strike="noStrike">
                <a:solidFill>
                  <a:srgbClr val="006666"/>
                </a:solidFill>
                <a:latin typeface="Calibri Bold"/>
              </a:rPr>
              <a:t>Mārciena 22.11.2012.</a:t>
            </a:r>
            <a:br>
              <a:rPr sz="3600"/>
            </a:br>
            <a:br>
              <a:rPr sz="800"/>
            </a:br>
            <a:br>
              <a:rPr sz="800"/>
            </a:br>
            <a:r>
              <a:rPr b="1" lang="lv-LV" sz="2300" spc="-1" strike="noStrike">
                <a:solidFill>
                  <a:srgbClr val="006666"/>
                </a:solidFill>
                <a:latin typeface="Calibri Bold"/>
              </a:rPr>
              <a:t>Laila Gercāne</a:t>
            </a:r>
            <a:br>
              <a:rPr sz="2300"/>
            </a:br>
            <a:r>
              <a:rPr b="1" lang="lv-LV" sz="2300" spc="-1" strike="noStrike">
                <a:solidFill>
                  <a:srgbClr val="006666"/>
                </a:solidFill>
                <a:latin typeface="Calibri Bold"/>
              </a:rPr>
              <a:t>Attīstības un projektu nodaļas vadītāja</a:t>
            </a:r>
            <a:br>
              <a:rPr sz="2300"/>
            </a:br>
            <a:r>
              <a:rPr b="1" lang="lv-LV" sz="2300" spc="-1" strike="noStrike">
                <a:solidFill>
                  <a:srgbClr val="006666"/>
                </a:solidFill>
                <a:latin typeface="Calibri Bold"/>
              </a:rPr>
              <a:t>Vidzemes plānošanas reģions</a:t>
            </a:r>
            <a:br>
              <a:rPr sz="3600"/>
            </a:br>
            <a:endParaRPr b="0" lang="en-US" sz="2300" spc="-1" strike="noStrike">
              <a:solidFill>
                <a:srgbClr val="006666"/>
              </a:solidFill>
              <a:latin typeface="Arial (headings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666"/>
                </a:solidFill>
                <a:latin typeface="Arial  (Headings)"/>
              </a:rPr>
              <a:t>Vietas pievilcība – kopīgs izaicinājums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528560"/>
            <a:ext cx="82296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Kas padara vietu pievilcīgu, aicinošu, interesantu, atvēr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Kas veido piederības sajūt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Kas veido mūsu izjūtas, mūsu personīgo attieksmi pret apkārtni, pret vietu un cilvēkiem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Kā panākt, lai katrs Vidzemē justos labi, lai augstu vērtētu iespēju šeit dzīvot, mācīties, atpūsties un strādāt - lai vērtētu iespēju būt </a:t>
            </a:r>
            <a:r>
              <a:rPr b="1" lang="lv-LV" sz="2800" spc="-1" strike="noStrike">
                <a:solidFill>
                  <a:srgbClr val="4d4d4d"/>
                </a:solidFill>
                <a:latin typeface="Arial"/>
              </a:rPr>
              <a:t>Vidzemē</a:t>
            </a: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 augstāk par citām iespējā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666"/>
                </a:solidFill>
                <a:latin typeface="Arial  (Headings)"/>
              </a:rPr>
              <a:t>Reģiona kopīgie izaicinājumi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11600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cilvēkresursu trū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sabiedrības novecošanā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vāja uzņēmējspēja, vāji attīstīta uzņēmējdarbī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zema pievilcība dzīvošanai, uzņēmējdarbībai, apmeklē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vides sektora pārsvars pār sociāli ekonomi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nenoturība pret ārējām negatīvajām ietekmē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zema pašpietiekamī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iekšējo resursu un spēju nepilnīga izmantoš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6344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666"/>
                </a:solidFill>
                <a:latin typeface="Arial  (Headings)"/>
              </a:rPr>
              <a:t>Risinājumi atkarīgi no mūsu izvēlētās stratēģijas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99520" y="1452240"/>
            <a:ext cx="87440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Vidzemes reģiona attīstības stratēģijas un programmas izstrāde</a:t>
            </a:r>
            <a:br>
              <a:rPr sz="2800"/>
            </a:b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2014.gada janvāris - decemb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666"/>
                </a:solidFill>
                <a:latin typeface="Arial  (Headings)"/>
              </a:rPr>
              <a:t>VPR 2013. gada skaitļi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25440" y="1014480"/>
            <a:ext cx="88185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Pašvaldību attīstības dokumentu saskaņošana (izstrādāti 40 atzinum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Nacionālais attīstības plāns un programmdok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Pārrobežu sadarbības progra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Attīstības projektu ieviešana (</a:t>
            </a:r>
            <a:r>
              <a:rPr b="0" lang="sv-SE" sz="2800" spc="-1" strike="noStrike">
                <a:solidFill>
                  <a:srgbClr val="4d4d4d"/>
                </a:solidFill>
                <a:latin typeface="Arial"/>
              </a:rPr>
              <a:t>30 projekti</a:t>
            </a: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Jaunu projektu identificēšana un izstrāde (2 jauni projekti, 15 projektu idej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Sadarbības attīstība reģionā un ārpus tā (</a:t>
            </a:r>
            <a:r>
              <a:rPr b="0" lang="sv-SE" sz="2800" spc="-1" strike="noStrike">
                <a:solidFill>
                  <a:srgbClr val="4d4d4d"/>
                </a:solidFill>
                <a:latin typeface="Arial"/>
              </a:rPr>
              <a:t>145 partneri 29 valstīs</a:t>
            </a: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Jaunu mērķtiecīgu partnerību attīstī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666"/>
                </a:solidFill>
                <a:latin typeface="Arial  (Headings)"/>
              </a:rPr>
              <a:t>Pozīcija</a:t>
            </a:r>
            <a:endParaRPr b="0" lang="en-US" sz="4000" spc="-1" strike="noStrike">
              <a:solidFill>
                <a:srgbClr val="006666"/>
              </a:solidFill>
              <a:latin typeface="Arial (headings)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25080" y="1014480"/>
            <a:ext cx="854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Katrai pašvaldībai un reģionam kopumā ir tiesības līdzdarboties nacionālo un ES mērķu sasniegšan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Attīstības iniciatīvas tiek realizētas ne tikai pašvaldību un reģiona administratīvajās, bet pirmkārt, to objektīvi funkcionālajās robežā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Reģions ievēro teritorijas integritātes un līdzvērtības principu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4d4d4d"/>
                </a:solidFill>
                <a:latin typeface="Arial"/>
              </a:rPr>
              <a:t>Reģionā nav atpalikušu teritoriju. Katrai teritorijai ir unikāls attīstības potenciāls, unikālas konkurētspējas priekšrocības un specializācijas iespē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49516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6666"/>
                </a:solidFill>
                <a:latin typeface="Calibri"/>
              </a:rPr>
              <a:t>Paldies par sadarbību!</a:t>
            </a:r>
            <a:br>
              <a:rPr sz="48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Vidzeme</a:t>
            </a:r>
            <a:r>
              <a:rPr b="1" lang="lv-LV" sz="2400" spc="-1" strike="noStrike">
                <a:solidFill>
                  <a:srgbClr val="006666"/>
                </a:solidFill>
                <a:latin typeface="Calibri"/>
              </a:rPr>
              <a:t>s plānošanas reģions</a:t>
            </a:r>
            <a:br>
              <a:rPr sz="2400"/>
            </a:br>
            <a:r>
              <a:rPr b="1" lang="lv-LV" sz="2400" spc="-1" strike="noStrike">
                <a:solidFill>
                  <a:srgbClr val="006666"/>
                </a:solidFill>
                <a:latin typeface="Calibri"/>
              </a:rPr>
              <a:t>Telefons</a:t>
            </a: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.: </a:t>
            </a:r>
            <a:r>
              <a:rPr b="1" lang="lv-LV" sz="2400" spc="-1" strike="noStrike">
                <a:solidFill>
                  <a:srgbClr val="006666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371 64116006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Fa</a:t>
            </a:r>
            <a:r>
              <a:rPr b="1" lang="lv-LV" sz="2400" spc="-1" strike="noStrike">
                <a:solidFill>
                  <a:srgbClr val="006666"/>
                </a:solidFill>
                <a:latin typeface="Calibri"/>
              </a:rPr>
              <a:t>x</a:t>
            </a: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.: </a:t>
            </a:r>
            <a:r>
              <a:rPr b="1" lang="lv-LV" sz="2400" spc="-1" strike="noStrike">
                <a:solidFill>
                  <a:srgbClr val="006666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371 64116012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vidzeme@vidzeme.lv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www.vidzeme.lv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Calibri"/>
              </a:rPr>
              <a:t>Vidzeme – ceļš ved augšup!</a:t>
            </a:r>
            <a:endParaRPr b="0" lang="en-US" sz="2400" spc="-1" strike="noStrike">
              <a:solidFill>
                <a:srgbClr val="006666"/>
              </a:solidFill>
              <a:latin typeface="Arial (headings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31:00Z</dcterms:created>
  <dc:creator>Māra Poikāne</dc:creator>
  <dc:description/>
  <dc:language>en-US</dc:language>
  <cp:lastModifiedBy>Anda.Eihenbauma</cp:lastModifiedBy>
  <cp:lastPrinted>2013-11-26T15:12:11Z</cp:lastPrinted>
  <dcterms:modified xsi:type="dcterms:W3CDTF">2013-11-28T07:10:30Z</dcterms:modified>
  <cp:revision>321</cp:revision>
  <dc:subject/>
  <dc:title>Vidzemes plānošanas reģiona prezentācija</dc:title>
</cp:coreProperties>
</file>